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chimes.wav" ContentType="audio/x-wav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AF12-68A4-4933-A8FE-FE938D89A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D928-C612-47FF-BD0D-34ACC4F2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A068-D79A-45C4-899B-90E6D2A2C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7F14-65F7-437C-B38C-8BC47FB76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6587-AF46-4440-B135-2475FE4FE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82C8-6F4E-472D-B759-BED0EA9D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7C3E-D174-4901-8358-88B9F4E1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2664-0F0D-4D8D-940B-0879C164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F9E6-3FCC-47A6-B209-2E713282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E132-4E09-4F33-8B0F-AC63A4E4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C189-A343-4242-ABDF-2BC5BADF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2718-C4B3-4931-BB38-B73803BD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1F68-7FF8-4C73-AFD3-13B32805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FD88-8ADD-4501-8921-0A3DDB8F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7D7E-145D-41C6-B4DD-42BA34B6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FCA5-7FD4-4EC8-9132-788B2E8E8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8162-2E4E-4989-AD75-20F6717C9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03C0-E70C-42E5-89BA-343E0CBD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120B-9321-4CF1-9FAD-C9E6A89A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0835-BABA-406C-8894-AF6490D7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03B1-2854-4B30-9C2B-FB2EA89F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CC44-415F-4386-B57E-82B82239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AFC5-9426-4CB1-A1D3-3F9DEF2F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7B23-414A-47E4-BE8A-DF88CCE2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AutoShape 3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7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8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FF17-8C66-4D63-88DA-553F7B1CE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1027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1028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1029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AutoShape 1030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031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032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1033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034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035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036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037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038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1039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1040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1041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042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1043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1044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1045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1046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1047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1048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1049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1050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051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B273-5F5E-413C-8B33-587E9906FA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1881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STRESS MANAGEMEN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Black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GRAD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EALTH – HEATH WALL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STRESS CONTINUED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48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LIFE SITUATIONS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- having someone or something die, divorce, trouble relationship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6" name="Picture 5" descr="C:\Program Files\Common Files\Microsoft Shared\Clipart\cagcat50\BD06990_.WMF"/>
          <p:cNvPicPr/>
          <p:nvPr/>
        </p:nvPicPr>
        <p:blipFill>
          <a:blip r:embed="rId1"/>
          <a:stretch/>
        </p:blipFill>
        <p:spPr>
          <a:xfrm>
            <a:off x="5257800" y="2209680"/>
            <a:ext cx="26463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144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How to Manage Your Stres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LIMINATE OR REDUCE YOUR EXPOSURE TO THE STRES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HANGE THE WAY YOU PERCEIVE THE STRES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RELIEVING STRES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67000" y="1981080"/>
            <a:ext cx="384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XERCIS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USIC THERAPY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EDITA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UMOR OR LAUGH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OGRESSIVE MUSCLE RELAXA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EP BREATH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SSAG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61" name="Picture 5" descr="C:\Program Files\Common Files\Microsoft Shared\Clipart\cagcat50\pe02364_.wmf"/>
          <p:cNvPicPr/>
          <p:nvPr/>
        </p:nvPicPr>
        <p:blipFill>
          <a:blip r:embed="rId1"/>
          <a:stretch/>
        </p:blipFill>
        <p:spPr>
          <a:xfrm>
            <a:off x="1066680" y="2455920"/>
            <a:ext cx="384840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905120" y="4572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STRE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600200" y="25909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body and mind reaction to everyday demands and threa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4" descr="C:\Program Files\Common Files\Microsoft Shared\Clipart\cagcat50\BD07175_.WMF"/>
          <p:cNvPicPr/>
          <p:nvPr/>
        </p:nvPicPr>
        <p:blipFill>
          <a:blip r:embed="rId1"/>
          <a:stretch/>
        </p:blipFill>
        <p:spPr>
          <a:xfrm>
            <a:off x="2971800" y="4038480"/>
            <a:ext cx="3276720" cy="216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TYPES OF STRES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676520" y="2514600"/>
            <a:ext cx="71625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USTR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TR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EUSTRES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48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S GOOD STRES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OSITIVE STRES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U – GREEK PREFIX WHICH MEANS GOO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DISTRES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AD STRES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EGATIVE STRES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checker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STRESSOR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NGS THAT PRODUCE A STRESS RESPONS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4" name="Picture 5" descr="C:\Program Files\Common Files\Microsoft Shared\Clipart\cagcat50\pe03166_.wmf"/>
          <p:cNvPicPr/>
          <p:nvPr/>
        </p:nvPicPr>
        <p:blipFill>
          <a:blip r:embed="rId1"/>
          <a:stretch/>
        </p:blipFill>
        <p:spPr>
          <a:xfrm>
            <a:off x="6019920" y="3733920"/>
            <a:ext cx="1695240" cy="1788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C:\Program Files\Microsoft Office\Clipart\Pub60Cor\bd00146_.wmf"/>
          <p:cNvPicPr/>
          <p:nvPr/>
        </p:nvPicPr>
        <p:blipFill>
          <a:blip r:embed="rId2"/>
          <a:stretch/>
        </p:blipFill>
        <p:spPr>
          <a:xfrm>
            <a:off x="1752480" y="3809880"/>
            <a:ext cx="1827360" cy="18129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3" name="chimes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TYPES OF STRESSOR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IOLOGICAL STRESSOR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NVIRONMENTA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OGNITIVE OR THINK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ERSONAL BEHAVIOR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IFE STITUATIO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STRESSOR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48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BIOLOGICAL-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ental or physical illnes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x. being blind, break an arm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67000" y="1981080"/>
            <a:ext cx="384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ENVIROMENTAL-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overty, pollution, crowding, noises and natural disaste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MORE STRESSOR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48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COGNITIVE OR THINKING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- the way you perceive a situa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67000" y="1981080"/>
            <a:ext cx="384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PERSONAL BEHAVIOR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- negative reaction of the mind and body because of drugs,alcohol, etc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4T12:03:26Z</dcterms:created>
  <dc:creator>Unknown User</dc:creator>
  <dc:description/>
  <dc:language>en-US</dc:language>
  <cp:lastModifiedBy>ddominguez</cp:lastModifiedBy>
  <dcterms:modified xsi:type="dcterms:W3CDTF">2009-05-26T17:31:12Z</dcterms:modified>
  <cp:revision>4</cp:revision>
  <dc:subject/>
  <dc:title>STRESS MANAGEMENT</dc:title>
</cp:coreProperties>
</file>